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5FA-C72F-4C05-8F2F-2D70DB81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BAE-D077-4DE4-A5B7-FC5FC294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A8C-96CA-46C2-BE6C-C36046E9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0FD9-FD6F-4EDD-B352-35519898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CBB7-C57F-4ED5-9AC6-6B28FAC4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3318-0319-4F1D-A07A-01038637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7D82-06A3-4E9E-B308-44784E5E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76DD-4EB5-43E9-94E8-5AE06FAF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C2EF-9F7D-4B1E-8019-3D76468E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FC3-BE55-4739-AA6D-2A8ADCD8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5949-0DFF-4D86-B6A3-EA46698C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A6E-6777-441F-9919-70AC1371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5548-DE0D-4C87-B519-060847740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979560"/>
            <a:ext cx="8713800" cy="53290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628640"/>
            <a:ext cx="1440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1628640"/>
            <a:ext cx="1440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80000" y="1628640"/>
            <a:ext cx="143964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64000" y="1628640"/>
            <a:ext cx="144000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F &amp;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F &amp;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144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W, Mech, 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5800" y="1700280"/>
            <a:ext cx="13669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-Co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WC, SW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3859200"/>
            <a:ext cx="1440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39974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437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3859200"/>
            <a:ext cx="1440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39974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80000" y="3859200"/>
            <a:ext cx="3024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32360" y="39974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9080" y="46512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6512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437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465120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2720" y="46512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443700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0072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65120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46512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24019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0720" y="242100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25480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25480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4000" y="2401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242100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254808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M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4000" y="254808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2844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8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1280" y="2844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2844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4920" y="28447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35640" y="2844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99280" y="28386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0720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728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4328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1280" y="50785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328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9272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443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46512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35640" y="5078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29440" y="46512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29440" y="50785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6000" y="3860640"/>
            <a:ext cx="1439640" cy="17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24720" y="39974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36000" y="44942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56720" y="450864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956720" y="4567320"/>
            <a:ext cx="71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artner, Lic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6000" y="465300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M, P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07280" y="50785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99280" y="50720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00360" y="979560"/>
            <a:ext cx="0" cy="53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1239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24200" y="1123920"/>
            <a:ext cx="31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Featur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979560"/>
            <a:ext cx="0" cy="53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24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24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800" y="345960"/>
            <a:ext cx="81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0‘ Scenario for FY04/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12.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630864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: 24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6308640"/>
            <a:ext cx="17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: 22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51640" y="6308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: 8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08720" y="1125360"/>
            <a:ext cx="136872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93080" y="2421000"/>
            <a:ext cx="1657080" cy="576360"/>
          </a:xfrm>
          <a:prstGeom prst="wedgeEllipseCallout">
            <a:avLst>
              <a:gd name="adj1" fmla="val 0"/>
              <a:gd name="adj2" fmla="val -11308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: 6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5734080"/>
            <a:ext cx="790560" cy="431640"/>
          </a:xfrm>
          <a:prstGeom prst="wedgeEllipseCallout">
            <a:avLst>
              <a:gd name="adj1" fmla="val -17870"/>
              <a:gd name="adj2" fmla="val -117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3500280"/>
            <a:ext cx="790560" cy="432000"/>
          </a:xfrm>
          <a:prstGeom prst="wedgeEllipseCallout">
            <a:avLst>
              <a:gd name="adj1" fmla="val 27509"/>
              <a:gd name="adj2" fmla="val -117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58160" y="5734080"/>
            <a:ext cx="790560" cy="431640"/>
          </a:xfrm>
          <a:prstGeom prst="wedgeEllipseCallout">
            <a:avLst>
              <a:gd name="adj1" fmla="val -5421"/>
              <a:gd name="adj2" fmla="val -11360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5734080"/>
            <a:ext cx="790560" cy="431640"/>
          </a:xfrm>
          <a:prstGeom prst="wedgeEllipseCallout">
            <a:avLst>
              <a:gd name="adj1" fmla="val 199"/>
              <a:gd name="adj2" fmla="val -117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5734080"/>
            <a:ext cx="790560" cy="431640"/>
          </a:xfrm>
          <a:prstGeom prst="wedgeEllipseCallout">
            <a:avLst>
              <a:gd name="adj1" fmla="val -10240"/>
              <a:gd name="adj2" fmla="val -11470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5734080"/>
            <a:ext cx="790920" cy="431640"/>
          </a:xfrm>
          <a:prstGeom prst="wedgeEllipseCallout">
            <a:avLst>
              <a:gd name="adj1" fmla="val -22689"/>
              <a:gd name="adj2" fmla="val -11470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7800" y="5734080"/>
            <a:ext cx="790560" cy="431640"/>
          </a:xfrm>
          <a:prstGeom prst="wedgeEllipseCallout">
            <a:avLst>
              <a:gd name="adj1" fmla="val -31125"/>
              <a:gd name="adj2" fmla="val -11176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93080" y="5734080"/>
            <a:ext cx="790560" cy="431640"/>
          </a:xfrm>
          <a:prstGeom prst="wedgeEllipseCallout">
            <a:avLst>
              <a:gd name="adj1" fmla="val 5824"/>
              <a:gd name="adj2" fmla="val -11948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3500280"/>
            <a:ext cx="790560" cy="432000"/>
          </a:xfrm>
          <a:prstGeom prst="wedgeEllipseCallout">
            <a:avLst>
              <a:gd name="adj1" fmla="val 27509"/>
              <a:gd name="adj2" fmla="val -11764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76720" y="5734080"/>
            <a:ext cx="935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55920" y="57340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ve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93080" y="3284640"/>
            <a:ext cx="934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94880" y="3284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v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7800" y="5734080"/>
            <a:ext cx="790560" cy="431640"/>
          </a:xfrm>
          <a:prstGeom prst="wedgeEllipseCallout">
            <a:avLst>
              <a:gd name="adj1" fmla="val -77712"/>
              <a:gd name="adj2" fmla="val -477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28000" y="3573360"/>
            <a:ext cx="792000" cy="432000"/>
          </a:xfrm>
          <a:prstGeom prst="wedgeEllipseCallout">
            <a:avLst>
              <a:gd name="adj1" fmla="val -87074"/>
              <a:gd name="adj2" fmla="val -3125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86520" y="3500280"/>
            <a:ext cx="790560" cy="432000"/>
          </a:xfrm>
          <a:prstGeom prst="wedgeEllipseCallout">
            <a:avLst>
              <a:gd name="adj1" fmla="val -6226"/>
              <a:gd name="adj2" fmla="val -12941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95640" y="3500280"/>
            <a:ext cx="790560" cy="432000"/>
          </a:xfrm>
          <a:prstGeom prst="wedgeEllipseCallout">
            <a:avLst>
              <a:gd name="adj1" fmla="val 199"/>
              <a:gd name="adj2" fmla="val -12647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48000" y="5516640"/>
            <a:ext cx="432000" cy="36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-2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16720" y="5516640"/>
            <a:ext cx="43164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3440" y="5516640"/>
            <a:ext cx="43164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61440" y="5516640"/>
            <a:ext cx="43164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59640" y="3357720"/>
            <a:ext cx="43200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7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63640" y="5516640"/>
            <a:ext cx="503280" cy="36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+9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5516640"/>
            <a:ext cx="432000" cy="36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+1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71640" y="3284640"/>
            <a:ext cx="43200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19640" y="3249720"/>
            <a:ext cx="432000" cy="360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-5‘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16720" y="3249720"/>
            <a:ext cx="431640" cy="360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’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3500280"/>
            <a:ext cx="790560" cy="432000"/>
          </a:xfrm>
          <a:prstGeom prst="wedgeEllipseCallout">
            <a:avLst>
              <a:gd name="adj1" fmla="val 27509"/>
              <a:gd name="adj2" fmla="val -11764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9:00:27Z</dcterms:created>
  <dc:creator>Jürgen Schmitz</dc:creator>
  <dc:description/>
  <dc:language>en-US</dc:language>
  <cp:lastModifiedBy>Jürgen Schmitz</cp:lastModifiedBy>
  <dcterms:modified xsi:type="dcterms:W3CDTF">2004-12-08T17:59:43Z</dcterms:modified>
  <cp:revision>18</cp:revision>
  <dc:subject/>
  <dc:title>Folie 1</dc:title>
</cp:coreProperties>
</file>